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3D4-0436-4155-9E86-0F26F0C9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399-E691-4609-B473-B4A2E4A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911-BBEC-45F7-8BC2-9DCC1183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7A5-BA7D-4730-835F-DA4A3CE8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CF3-BEC8-47B2-A154-1CC98437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6B0-5A88-4CD1-8F69-A6A53F6C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752-419A-44E8-986F-A86FC51D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AC4-BB82-40E9-80B8-14FF907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774-7F1A-426D-89C9-B4DCD2E8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136-0B38-4029-BF7C-F1660EA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CB5-8F61-4D68-823F-54DB0A2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94C-F025-4E4A-B044-E8185EE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AFD5-2723-4ED7-A6C3-2CE04914D2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студентка 4 курса филологического факультета КГПИ Дуркина Юли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>
            <a:alphaModFix amt="59000"/>
          </a:blip>
          <a:stretch/>
        </p:blipFill>
        <p:spPr>
          <a:xfrm>
            <a:off x="1523880" y="1828800"/>
            <a:ext cx="6270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Основной вопро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32523"/>
                </a:solidFill>
                <a:latin typeface="Calibri"/>
              </a:rPr>
              <a:t>Что такое искусство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просы, которые волнуют воображение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Для чего строили пирамиды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Каким правилам следовали  художники и скульпторы Египта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Зачем делали стату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Какое значение имели роспис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чем мы это изучаем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бы узнать об искусстве Древнего Египта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бы расширить кругозор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редставление результатов исследова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репортаж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кле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б-сай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нени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Темы, которые мы изучим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Наш курс будет длитьс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две недел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Этапы проведения проек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и форма 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http://ru.wikipedia.org/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http://images.yandex.r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krugosvet.ru/enc/istoriya/DREVNI_EGIPET.htm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slovari.yandex.ru/dict/krugosvet/artic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untries.ru/library/ancient/egypt.ht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artprojekt.ru/Civilization/0081.htm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27:18Z</dcterms:created>
  <dc:creator>Юлия</dc:creator>
  <dc:description/>
  <dc:language>en-US</dc:language>
  <cp:lastModifiedBy>Юлия</cp:lastModifiedBy>
  <dcterms:modified xsi:type="dcterms:W3CDTF">2010-04-28T13:08:42Z</dcterms:modified>
  <cp:revision>8</cp:revision>
  <dc:subject/>
  <dc:title>Слайд 1</dc:title>
</cp:coreProperties>
</file>